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CD5-755B-4B30-B808-5C3CBB35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5D7-3C00-4F3A-80C2-92A988D0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DBD-B88E-4552-AFEA-1C939D8A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DFC-933C-4E64-AFB8-F5D7C026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0B76-B811-448F-ACD6-806610E3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69A5-BC14-4B53-AA13-2355C876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BFDA-6C11-480F-A39A-AEB59B7C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358-0273-4904-99CE-60A58E5C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BBC-64A5-438C-A366-74AAC519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1F9B-316F-4ECD-9EAF-201E2D8A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9441-81C4-413F-A34A-FB76E44F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448-0418-43B3-8828-A14DA180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DF6D7-5488-4EE6-A8B8-692D799057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Map and CM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gress towards CMap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MAE - CMap Assembly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n F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12720" y="1690560"/>
            <a:ext cx="7075800" cy="551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lighted Features in CMap 1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8000" y="2187720"/>
            <a:ext cx="90727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t plot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eat map gly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figurable butt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twork install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ug Fi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t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271520"/>
            <a:ext cx="4559400" cy="5357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5105520" cy="52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eat Map Feature Gly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91040" y="1589040"/>
            <a:ext cx="1625400" cy="57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th to 1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date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up Chado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MWare Ap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MAE – CMap Assembly Edi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7427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